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6.png" ContentType="image/png"/>
  <Override PartName="/ppt/media/image1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F1A-CCB8-4A62-B51E-28695764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107-B7C6-4BA9-9B16-C1D4765E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A8B-C94A-4F23-971F-94B461CF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D41-81CD-4941-8358-5DBD3D04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7A50-8C79-45FB-A8FF-9C82A222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5BCD-8B24-482D-B551-4B11BAA1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2D79-661C-4811-AFD8-1E911CC3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4738-02C3-4DB8-9341-F4CE6A1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C6FD-E6B7-4BBC-8CA7-A93159D0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7BC7-6ACD-4C43-9BA0-1A2884E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22D2-6039-4123-9CD5-93893A0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086-65E8-4BE0-B81B-2FA0D317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811B-1D0B-4D70-88C3-CDBAFE9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B43A-64BE-4976-A6A0-D22EFF3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AEF-F586-4535-8F6D-04861258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B06-D19F-40FE-93F5-73D8C255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D06D-6207-447A-9276-DF963194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77A-8AD9-4018-A572-91305C9F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B01-745C-4224-8D95-C9C0A317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5D0-5AF9-4EF3-B681-0ABC1605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CC0-93C7-460E-9375-C292CBCA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6ED-73F0-45D6-9A9D-727BBB7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02C-9024-47F3-91BD-B01C9B5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92D-32B1-4593-873C-421FACA3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8DF-6EDC-4101-A206-C223DD55F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295C-B72A-48CC-BBEC-F24AB6DFEB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лют Побе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6730ca334e73[1]"/>
          <p:cNvPicPr/>
          <p:nvPr/>
        </p:nvPicPr>
        <p:blipFill>
          <a:blip r:embed="rId1"/>
          <a:stretch/>
        </p:blipFill>
        <p:spPr>
          <a:xfrm>
            <a:off x="611280" y="1341360"/>
            <a:ext cx="7993080" cy="4940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C:\Users\школа79\Desktop\33164450.jp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раничный город Бр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Содержимое 3" descr="https://fsd.multiurok.ru/html/2019/05/19/s_5ce129baacb04/1159998_9.jpeg"/>
          <p:cNvPicPr/>
          <p:nvPr/>
        </p:nvPicPr>
        <p:blipFill>
          <a:blip r:embed="rId1"/>
          <a:stretch/>
        </p:blipFill>
        <p:spPr>
          <a:xfrm>
            <a:off x="324000" y="155736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" descr="https://fsd.multiurok.ru/html/2019/05/19/s_5ce129baacb04/1159998_10.jpeg"/>
          <p:cNvPicPr/>
          <p:nvPr/>
        </p:nvPicPr>
        <p:blipFill>
          <a:blip r:embed="rId2"/>
          <a:stretch/>
        </p:blipFill>
        <p:spPr>
          <a:xfrm>
            <a:off x="4643280" y="3284640"/>
            <a:ext cx="41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ПАН  ЩИПАЧЁ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2 июня 1941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41360"/>
            <a:ext cx="4402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залось, было холодно цвета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от росы они слегка поблёкл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рю, что шла по травам и куста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шарили немецкие бинокл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веток, в росинках весь, к цветку приник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пограничник протянул к ним рук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немцы, кончив кофе пить, в тот миг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лезали в танки, закрывали лю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ою всё дышало тишино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вся земля еще спала, казалось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то знал, что между миром и вой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го каких-то пять минут осталось!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о другом не пел бы ни о чё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славил бы всю жизнь свою дорогу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гда б армейским скромным трубачо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эти пять минут трубил тревогу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9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" descr="https://stihi.ru/pics/2019/06/19/8093.jpg"/>
          <p:cNvPicPr/>
          <p:nvPr/>
        </p:nvPicPr>
        <p:blipFill>
          <a:blip r:embed="rId2"/>
          <a:stretch/>
        </p:blipFill>
        <p:spPr>
          <a:xfrm>
            <a:off x="4572000" y="2060640"/>
            <a:ext cx="42181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C:\Users\user\Desktop\1.jpeg"/>
          <p:cNvPicPr/>
          <p:nvPr/>
        </p:nvPicPr>
        <p:blipFill>
          <a:blip r:embed="rId1"/>
          <a:stretch/>
        </p:blipFill>
        <p:spPr>
          <a:xfrm>
            <a:off x="250920" y="1125360"/>
            <a:ext cx="3384360" cy="2194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user\Desktop\2.jpg"/>
          <p:cNvPicPr/>
          <p:nvPr/>
        </p:nvPicPr>
        <p:blipFill>
          <a:blip r:embed="rId2"/>
          <a:stretch/>
        </p:blipFill>
        <p:spPr>
          <a:xfrm>
            <a:off x="3780000" y="215748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user\Desktop\3.jpg"/>
          <p:cNvPicPr/>
          <p:nvPr/>
        </p:nvPicPr>
        <p:blipFill>
          <a:blip r:embed="rId3"/>
          <a:stretch/>
        </p:blipFill>
        <p:spPr>
          <a:xfrm>
            <a:off x="5219640" y="4149720"/>
            <a:ext cx="36576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 мая 1965 года Москве присвоено звание «Город-герой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Содержимое 3" descr="https://fsd.multiurok.ru/html/2019/05/19/s_5ce129baacb04/1159998_3.jpeg"/>
          <p:cNvPicPr/>
          <p:nvPr/>
        </p:nvPicPr>
        <p:blipFill>
          <a:blip r:embed="rId1"/>
          <a:stretch/>
        </p:blipFill>
        <p:spPr>
          <a:xfrm>
            <a:off x="1332000" y="1628640"/>
            <a:ext cx="676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окада Ленинграда: 8 сентября 1941 – 27 января 194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395280" y="1197000"/>
            <a:ext cx="3960720" cy="244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C:\Users\user\Desktop\3.jpg"/>
          <p:cNvPicPr/>
          <p:nvPr/>
        </p:nvPicPr>
        <p:blipFill>
          <a:blip r:embed="rId2"/>
          <a:stretch/>
        </p:blipFill>
        <p:spPr>
          <a:xfrm>
            <a:off x="5003640" y="1052640"/>
            <a:ext cx="3816360" cy="2568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2147400" y="74880"/>
            <a:ext cx="484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ада Ленинграда: 8 сентября 1941 – 27 января 19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C:\Users\user\Desktop\4.jpg"/>
          <p:cNvPicPr/>
          <p:nvPr/>
        </p:nvPicPr>
        <p:blipFill>
          <a:blip r:embed="rId3"/>
          <a:stretch/>
        </p:blipFill>
        <p:spPr>
          <a:xfrm>
            <a:off x="2627280" y="3933720"/>
            <a:ext cx="4052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к. Мемориальный комплек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Содержимое 3" descr="https://fsd.multiurok.ru/html/2019/05/19/s_5ce129baacb04/1159998_7.jpeg"/>
          <p:cNvPicPr/>
          <p:nvPr/>
        </p:nvPicPr>
        <p:blipFill>
          <a:blip r:embed="rId1"/>
          <a:stretch/>
        </p:blipFill>
        <p:spPr>
          <a:xfrm>
            <a:off x="1835280" y="2079720"/>
            <a:ext cx="51181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гра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C:\Users\user\Desktop\1.jpeg"/>
          <p:cNvPicPr/>
          <p:nvPr/>
        </p:nvPicPr>
        <p:blipFill>
          <a:blip r:embed="rId1"/>
          <a:stretch/>
        </p:blipFill>
        <p:spPr>
          <a:xfrm>
            <a:off x="468360" y="1268280"/>
            <a:ext cx="3887640" cy="25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user\Desktop\2.jpeg"/>
          <p:cNvPicPr/>
          <p:nvPr/>
        </p:nvPicPr>
        <p:blipFill>
          <a:blip r:embed="rId2"/>
          <a:stretch/>
        </p:blipFill>
        <p:spPr>
          <a:xfrm>
            <a:off x="468360" y="400536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user\Desktop\3.jpeg"/>
          <p:cNvPicPr/>
          <p:nvPr/>
        </p:nvPicPr>
        <p:blipFill>
          <a:blip r:embed="rId3"/>
          <a:stretch/>
        </p:blipFill>
        <p:spPr>
          <a:xfrm>
            <a:off x="4643280" y="2492280"/>
            <a:ext cx="42832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Содержимое 3" descr="https://fsd.multiurok.ru/html/2019/05/19/s_5ce129baacb04/1159998_15.jpeg"/>
          <p:cNvPicPr/>
          <p:nvPr/>
        </p:nvPicPr>
        <p:blipFill>
          <a:blip r:embed="rId1"/>
          <a:stretch/>
        </p:blipFill>
        <p:spPr>
          <a:xfrm>
            <a:off x="1187280" y="1600200"/>
            <a:ext cx="6405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этот радостный день раздаются залпы салютов в городах - героях, в городах воинской сла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8" descr="0_219fb_d60f216c_XL[1]"/>
          <p:cNvPicPr/>
          <p:nvPr/>
        </p:nvPicPr>
        <p:blipFill>
          <a:blip r:embed="rId1"/>
          <a:stretch/>
        </p:blipFill>
        <p:spPr>
          <a:xfrm>
            <a:off x="2411280" y="2637000"/>
            <a:ext cx="4465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Содержимое 3" descr="https://fsd.multiurok.ru/html/2019/05/19/s_5ce129baacb04/1159998_2.jpeg"/>
          <p:cNvPicPr/>
          <p:nvPr/>
        </p:nvPicPr>
        <p:blipFill>
          <a:blip r:embed="rId1"/>
          <a:stretch/>
        </p:blipFill>
        <p:spPr>
          <a:xfrm>
            <a:off x="395280" y="1557360"/>
            <a:ext cx="3200400" cy="21240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https://fsd.multiurok.ru/html/2019/05/19/s_5ce129baacb04/1159998_3.jpeg"/>
          <p:cNvPicPr/>
          <p:nvPr/>
        </p:nvPicPr>
        <p:blipFill>
          <a:blip r:embed="rId2"/>
          <a:stretch/>
        </p:blipFill>
        <p:spPr>
          <a:xfrm>
            <a:off x="468360" y="4149720"/>
            <a:ext cx="2557440" cy="1224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https://fsd.multiurok.ru/html/2019/05/19/s_5ce129baacb04/1159998_4.jpeg"/>
          <p:cNvPicPr/>
          <p:nvPr/>
        </p:nvPicPr>
        <p:blipFill>
          <a:blip r:embed="rId3"/>
          <a:stretch/>
        </p:blipFill>
        <p:spPr>
          <a:xfrm>
            <a:off x="7164360" y="1628640"/>
            <a:ext cx="1644840" cy="1368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https://fsd.multiurok.ru/html/2019/05/19/s_5ce129baacb04/1159998_5.jpeg"/>
          <p:cNvPicPr/>
          <p:nvPr/>
        </p:nvPicPr>
        <p:blipFill>
          <a:blip r:embed="rId4"/>
          <a:stretch/>
        </p:blipFill>
        <p:spPr>
          <a:xfrm>
            <a:off x="5292720" y="1916280"/>
            <a:ext cx="166356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https://fsd.multiurok.ru/html/2019/05/19/s_5ce129baacb04/1159998_6.jpeg"/>
          <p:cNvPicPr/>
          <p:nvPr/>
        </p:nvPicPr>
        <p:blipFill>
          <a:blip r:embed="rId5"/>
          <a:stretch/>
        </p:blipFill>
        <p:spPr>
          <a:xfrm>
            <a:off x="3780000" y="3500280"/>
            <a:ext cx="1368360" cy="15130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8" descr="https://fsd.multiurok.ru/html/2019/05/19/s_5ce129baacb04/1159998_7.jpeg"/>
          <p:cNvPicPr/>
          <p:nvPr/>
        </p:nvPicPr>
        <p:blipFill>
          <a:blip r:embed="rId6"/>
          <a:stretch/>
        </p:blipFill>
        <p:spPr>
          <a:xfrm>
            <a:off x="7164360" y="3357720"/>
            <a:ext cx="16844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https://fsd.multiurok.ru/html/2019/05/19/s_5ce129baacb04/1159998_8.jpeg"/>
          <p:cNvPicPr/>
          <p:nvPr/>
        </p:nvPicPr>
        <p:blipFill>
          <a:blip r:embed="rId7"/>
          <a:stretch/>
        </p:blipFill>
        <p:spPr>
          <a:xfrm>
            <a:off x="3564000" y="5229360"/>
            <a:ext cx="2087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fireworks1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LT%2050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9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121036263413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http://im2-tub-ru.yandex.net/i?id=7c0672c39544accca15295d493053329-60-144&amp;n=24"/>
          <p:cNvPicPr/>
          <p:nvPr/>
        </p:nvPicPr>
        <p:blipFill>
          <a:blip r:embed="rId2"/>
          <a:stretch/>
        </p:blipFill>
        <p:spPr>
          <a:xfrm>
            <a:off x="63360" y="-136440"/>
            <a:ext cx="916812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гила неизвестного солдата в Моск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Содержимое 3" descr="https://fsd.multiurok.ru/html/2019/05/19/s_5ce129baacb04/1159998_16.jpeg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дведение итогов 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5480" y="2568600"/>
            <a:ext cx="80676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нового вы узнали сегодня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мы называем праздник 9 Мая Днем Побе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поздравите наших ветеран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1 июня 1941 года во многих средних школах и училищах страны состоялись выпускные вечера. Играл духовой оркестр, сияли лица, танцы допоздна. Более миллиона юношей и девушек Советского Союза готовились к новой, счастливой, "взрослой"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user\Desktop\1.jpg"/>
          <p:cNvPicPr/>
          <p:nvPr/>
        </p:nvPicPr>
        <p:blipFill>
          <a:blip r:embed="rId1"/>
          <a:stretch/>
        </p:blipFill>
        <p:spPr>
          <a:xfrm>
            <a:off x="1692360" y="2637000"/>
            <a:ext cx="55436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2" descr="C:\Users\школа79\Desktop\00301211.jpg"/>
          <p:cNvPicPr/>
          <p:nvPr/>
        </p:nvPicPr>
        <p:blipFill>
          <a:blip r:embed="rId2"/>
          <a:stretch/>
        </p:blipFill>
        <p:spPr>
          <a:xfrm>
            <a:off x="755640" y="-31680"/>
            <a:ext cx="74167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C:\Users\школа79\Desktop\fc98bf9d2935t.jpg"/>
          <p:cNvPicPr/>
          <p:nvPr/>
        </p:nvPicPr>
        <p:blipFill>
          <a:blip r:embed="rId2"/>
          <a:stretch/>
        </p:blipFill>
        <p:spPr>
          <a:xfrm>
            <a:off x="5003640" y="3662280"/>
            <a:ext cx="3649680" cy="290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школа79\Desktop\raznye-sudby-leonid-lukov-1956-melodrama-dvdrip-1.jpg"/>
          <p:cNvPicPr/>
          <p:nvPr/>
        </p:nvPicPr>
        <p:blipFill>
          <a:blip r:embed="rId3"/>
          <a:stretch/>
        </p:blipFill>
        <p:spPr>
          <a:xfrm>
            <a:off x="179280" y="333360"/>
            <a:ext cx="4521240" cy="3390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:\Users\школа79\Desktop\screenshot0.jpg"/>
          <p:cNvPicPr/>
          <p:nvPr/>
        </p:nvPicPr>
        <p:blipFill>
          <a:blip r:embed="rId4"/>
          <a:stretch/>
        </p:blipFill>
        <p:spPr>
          <a:xfrm>
            <a:off x="2124000" y="202896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C:\Users\школа79\Desktop\iBHVGGWS5.jpg"/>
          <p:cNvPicPr/>
          <p:nvPr/>
        </p:nvPicPr>
        <p:blipFill>
          <a:blip r:embed="rId2"/>
          <a:stretch/>
        </p:blipFill>
        <p:spPr>
          <a:xfrm>
            <a:off x="0" y="115920"/>
            <a:ext cx="9131400" cy="674208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 3" descr=""/>
          <p:cNvPicPr/>
          <p:nvPr/>
        </p:nvPicPr>
        <p:blipFill>
          <a:blip r:embed="rId3"/>
          <a:stretch/>
        </p:blipFill>
        <p:spPr>
          <a:xfrm>
            <a:off x="927000" y="1731960"/>
            <a:ext cx="73328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" descr="C:\Users\школа79\Desktop\iBHVGGWS5.jpg"/>
          <p:cNvPicPr/>
          <p:nvPr/>
        </p:nvPicPr>
        <p:blipFill>
          <a:blip r:embed="rId2"/>
          <a:stretch/>
        </p:blipFill>
        <p:spPr>
          <a:xfrm>
            <a:off x="12600" y="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школа79\Desktop\1004492156.jpg"/>
          <p:cNvPicPr/>
          <p:nvPr/>
        </p:nvPicPr>
        <p:blipFill>
          <a:blip r:embed="rId3"/>
          <a:stretch/>
        </p:blipFill>
        <p:spPr>
          <a:xfrm>
            <a:off x="2627280" y="452520"/>
            <a:ext cx="39607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7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C:\Users\школа79\Desktop\457025.jpg"/>
          <p:cNvPicPr/>
          <p:nvPr/>
        </p:nvPicPr>
        <p:blipFill>
          <a:blip r:embed="rId2"/>
          <a:stretch/>
        </p:blipFill>
        <p:spPr>
          <a:xfrm>
            <a:off x="-117360" y="0"/>
            <a:ext cx="93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C:\Users\школа79\Desktop\9b37a601a674.jpg"/>
          <p:cNvPicPr/>
          <p:nvPr/>
        </p:nvPicPr>
        <p:blipFill>
          <a:blip r:embed="rId2"/>
          <a:stretch/>
        </p:blipFill>
        <p:spPr>
          <a:xfrm>
            <a:off x="4752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16:21Z</dcterms:created>
  <dc:creator>Админчик</dc:creator>
  <dc:description/>
  <dc:language>en-US</dc:language>
  <cp:lastModifiedBy>user</cp:lastModifiedBy>
  <dcterms:modified xsi:type="dcterms:W3CDTF">2020-05-31T12:11:00Z</dcterms:modified>
  <cp:revision>22</cp:revision>
  <dc:subject/>
  <dc:title>Салют Победы</dc:title>
</cp:coreProperties>
</file>